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E96-0E45-44C7-8D6E-08FF99BB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887-AC78-42DE-9AD7-C8A84BFA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2E9-3784-4C61-88B6-F15731E1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CF7-93FD-4741-BA5F-3BAC6E22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B3B-5439-4F73-BC7F-6E46E63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6BD-62E7-4A67-8F3F-882371FE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F57-6129-4B0C-A905-96FCEFA0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CBB-AA03-406C-AE88-C319FE78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6BB-365C-4A46-8F42-6E2164DE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0EE-C703-4D66-AC88-73958E13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64E-D935-4283-9C8F-16E41972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2AF-696B-491D-9C3F-8524950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5CD-17B5-4573-8C5A-63613E175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SE2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8:45:32Z</dcterms:created>
  <dc:creator>Employee</dc:creator>
  <dc:description/>
  <dc:language>en-US</dc:language>
  <cp:lastModifiedBy>Employee</cp:lastModifiedBy>
  <dcterms:modified xsi:type="dcterms:W3CDTF">2001-07-12T18:47:21Z</dcterms:modified>
  <cp:revision>1</cp:revision>
  <dc:subject/>
  <dc:title>No Slide Title</dc:title>
</cp:coreProperties>
</file>